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800" y="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2740299-C7C3-4125-AA09-06CAC09C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AEBAECD-9BE6-4804-8EC1-C7FA912F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500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FAD1818-1648-4179-9EE5-315A1DFC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B9C984C-FDBF-46F1-8534-1A00525D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197CDA1-9EFA-42B4-95F5-CDC0135E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5786233-AB6A-408B-BE64-A5BD492E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1C02FE4-0978-44E1-9D90-56A11C04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4169A74-6A1B-4F5B-865D-6015928F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5A49156-994C-469D-B5F1-1483D6F3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E5280E1-66B8-450C-837B-C5B6266F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71761FD-FD4F-496E-926E-48FDADE7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3046BBF-A8AB-4C0E-9F5F-2840EBB0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C2D7540-5A0C-48A9-9044-3344159A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63045B1-086A-4D4F-B6AE-4760E6971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9A0FA99-36CE-492D-B646-83645487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253AF5A-2703-45FC-8D1C-D124E5AEE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8594528-089D-4E84-965B-3C5566627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5EA87D-2A51-48AA-86CB-08352A66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F92AE9F-737F-487D-9413-5F297D4BB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4BBAC73-1C8C-481E-84D9-5F181AD2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FC24032-BDE4-4F70-ABFC-5CCA551D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9618830-2336-4391-8E79-66C3DD51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2273F2F-5D06-4919-93FE-483626B9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3B7F9EA-2F99-4C25-9D31-50E314F2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28336D1-980A-4DEB-BAF2-4C7F512B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E0BCC9F-5E56-4CCC-AB51-EB7A432B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6D6E9DE-7CC1-42D3-BD91-EE8257FC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0D6B6D8-4F62-4D46-B447-7AD80B68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F32EB19-9FEE-48D4-B76F-A3A77C68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5188CB3-E89C-4262-99AA-EDCC48F3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DD5A701-187C-4623-9A3E-51D84479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940C7F0-15C7-4A18-98D0-40B0F589F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FDB2B6E-F9CF-4853-B446-C913FE8D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5642740-1C70-4212-A2FA-A1695C4A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7AF50D-55C3-4C23-AE46-3F8134F6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51029AA-6D94-4A15-8642-D28E43DD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A75D395-A643-4DEA-BF6C-ADEEB44F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C6F1376-D69D-4E86-AEBD-19AC5A9D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67AB1AA-3544-4C5F-8D0D-123A78C9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627F31F-7112-4D12-BC7A-1B85624F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AA17F2A-A3F3-4B4F-8A33-CFD566BD9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C78C40E-87D8-483A-937D-3FB5F605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B24235-5666-4B6A-A5A9-3B6F7A97E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24DFA48-B1F5-40DF-87BA-0EAC8442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59161F-1936-4ED0-85FF-A189D40B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18999CA-E4D0-47CE-8BC8-3F42466E3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7DEFE97-5CC7-44A6-AD3F-6CB24583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FF180F1-C6F3-40CF-901F-10E5FED1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ED716DF-FA1E-41E1-8773-CF7C485A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FB088D1-F43B-4611-A946-273CD343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B6B5758-0681-41A1-8992-1D505FD9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FE5FB6D-B418-46C7-BE3E-BFDBFD3C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8A5D8DA-DA8C-47BB-8A4B-6F4060DB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C6DA3CC-2151-4826-BF01-956D0ECB6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2EFBB47-D0A6-41D1-A420-653C492D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F8BA133-3F53-4D92-AA22-B00A581F4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9234FE0-E191-4284-B65E-DAA0E8B2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856E817-FAC3-4963-95DC-37E64FEF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66C72E-0054-4B67-9BE4-3972FBED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DA39D4D-7326-4DEC-A4B0-E0BAB073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6093989-925A-4B37-8B34-88174761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A7DA2B2-0E7E-4740-9BB6-139698002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55C6A09-98B5-46DC-A904-01536B48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CAB4-2067-408A-B918-8E5AEE2C5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C191-7CE1-4979-8009-48177CA523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4DC5-BBAE-4A4B-BF85-C3F951258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9199-CA5C-4A75-87BA-F2A97C9DE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D538-F7EE-4588-8149-D9FA0CB446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8352-A0A6-4DFC-8D2D-B6BF48B678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260F-C70E-4431-B952-243014D22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2BFB-6474-4FAF-9749-9DE583EBE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5F80-6766-4339-BFFA-2AD830E48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CB1B-8A93-4A09-9598-45D7014A9C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2041-F3B7-4D9C-91A3-505F5967CC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6D16-94B8-4DFB-BFA8-223918192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5.</a:t>
            </a:r>
            <a:fld id="{81645CE1-FA85-4A39-8589-312D96374177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C19-E79B-4242-BD44-270C6DAAF59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5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824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action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466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art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make progress —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 situation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ndle a deadlock on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rolled ba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lock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15"/>
          <p:cNvPicPr/>
          <p:nvPr/>
        </p:nvPicPr>
        <p:blipFill>
          <a:blip r:embed="rId1"/>
          <a:stretch/>
        </p:blipFill>
        <p:spPr>
          <a:xfrm>
            <a:off x="2765520" y="1585800"/>
            <a:ext cx="2960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8480" y="55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5200" y="779400"/>
            <a:ext cx="69152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freedom from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deadlock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ossibility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 if the concurrency control manager is badly designed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waiting for an X-lock on an item, while a sequence of other transactions request and are granted an S-lock on the same i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transaction is repeatedly rolled back due to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nager can be designed to prevent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681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5960" y="1166760"/>
            <a:ext cx="690228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for deadlock exists in most locking protocols. Deadlocks are a necessary e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deadlock occurs there is a possibility of cascading roll-b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-back is possible under two-phase locking. To avoid this, follow a modified protocol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ict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ven stricter. H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are held till commit/abort. In this protocol 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9920" y="1095120"/>
            <a:ext cx="699624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manage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tab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10160" y="1079640"/>
            <a:ext cx="43178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k blue rectangles indicate granted locks; light blue indicate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as668\Desktop\15_10.jpg"/>
          <p:cNvPicPr/>
          <p:nvPr/>
        </p:nvPicPr>
        <p:blipFill>
          <a:blip r:embed="rId1"/>
          <a:stretch/>
        </p:blipFill>
        <p:spPr>
          <a:xfrm>
            <a:off x="814320" y="1252440"/>
            <a:ext cx="3354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5176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locks all its data items 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partial ordering of all data items and require that a transaction can lock data items only in the order specified by the parti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Deadlock Prevention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648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schemes use transaction timestamps for the sake of deadlock prevention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non-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may wait for younger one to release data item. (older means smaller timestamp) Younger transactions never Younger transactions never wait for older ones; they are rolled back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die several times before acquiring need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ces rollback) of younger transaction instead of waiting for it. Younger transactions may wait for old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fewer rollbacks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, a rolled back transactions is restarted with its original timestamp. Older transactions thus have precedence over newer ones, and starvation is henc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out-Based Sche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aits for a lock only for a specified amount of time. If the lock has not been granted within that time, the transaction is rolled back and restar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starvation is possible. Also difficult to determine good value of the 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wait-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cycle.  Must invoke a deadlock-detection algorithm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7320" y="1169640"/>
            <a:ext cx="64119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2600" y="150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02880" y="42102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out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78680" y="424656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211400" y="1574640"/>
            <a:ext cx="2882880" cy="212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5599080" y="1747800"/>
            <a:ext cx="2562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15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victim)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hierarchy of data granularities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nularit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e granula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arse granular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442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1603440" y="993600"/>
            <a:ext cx="60087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): 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X): 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and 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X): 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all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114120"/>
            <a:ext cx="8407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tibility Matrix with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5480" y="124416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2" descr=""/>
          <p:cNvPicPr/>
          <p:nvPr/>
        </p:nvPicPr>
        <p:blipFill>
          <a:blip r:embed="rId1"/>
          <a:stretch/>
        </p:blipFill>
        <p:spPr>
          <a:xfrm>
            <a:off x="1490760" y="2031840"/>
            <a:ext cx="65894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0136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 or IS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IS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X, SIX, or IX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SIX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ock granularity esca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case there are too many locks at a particular level, switch to higher granularity S or X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820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time-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4422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6827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clu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X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har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S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the concurrency-control manager by the programmer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2600" y="139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27000" y="10857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al schedule for several data items for transaction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s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776240" y="2041560"/>
            <a:ext cx="4983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806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416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-ordering protocol guarantees serializability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freedom from deadlock 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not be cascade-free, and may  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2131920" y="1979640"/>
            <a:ext cx="49453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ility and Cascade Freedo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7090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timestamp-order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s,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ad a data item written by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bort;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been allowed to commit earlier, the schedule is not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, any transaction that has read a data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lead to cascading rollback --- that is, a chain of ro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structured such that its writes are all performed at the end of i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rites of a transaction form an atomic action; no transaction may execute while a transaction is being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aborts is restarted with a new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Limited form of locking: wait for data to be committed before read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 Use commit dependencies to ensure 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omas</a:t>
            </a:r>
            <a:r>
              <a:rPr b="1" lang="ja-JP" sz="32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Wri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 of the timestamp-ordering protocol in which obso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may be ignored under certain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empts to write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rolling ba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timestamp ordering protocol would have done, this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peration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is protocol is the same as the timestamp order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' Write Rule allows greater potential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some view-serializable schedules that are not conflict-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988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one in three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ad and execu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only t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Valida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  ''validation test'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if local variables can be written without violating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rite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alidated, the updates are applied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; otherwis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phases of concurrently executing transactions can be    interleaved, but each transaction must go through the three phases in tha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simplicity that the validation and write phase occur together, atomically and ser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only one transaction executes validation/write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mistic concurrency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ransaction executes fully in the hope that all will go well dur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3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ed its valid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 its writ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order is determined by timestamp given at validation time; this is done to increase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given the value of 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useful and gives greater degree of concurrency if probability of conflicts is 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serializability order is not pre-decid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few transactions will have t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 Test for Transaction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3170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ither one of the following condition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data items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intersect with the set of data items rea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validation succeed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committed.  Otherwise, validation fai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ither the first condition is satisfied, and there is no overlapped execution, or the second condition is satisfi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hey occur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finished its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read  any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Produced by Valid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schedule produced us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15"/>
          <p:cNvPicPr/>
          <p:nvPr/>
        </p:nvPicPr>
        <p:blipFill>
          <a:blip r:embed="rId1"/>
          <a:stretch/>
        </p:blipFill>
        <p:spPr>
          <a:xfrm>
            <a:off x="2581200" y="1859040"/>
            <a:ext cx="2944800" cy="2960640"/>
          </a:xfrm>
          <a:prstGeom prst="rect">
            <a:avLst/>
          </a:prstGeom>
          <a:ln w="0">
            <a:noFill/>
          </a:ln>
        </p:spPr>
      </p:pic>
      <p:sp>
        <p:nvSpPr>
          <p:cNvPr id="176" name="Straight Connector 5"/>
          <p:cNvSpPr/>
          <p:nvPr/>
        </p:nvSpPr>
        <p:spPr>
          <a:xfrm>
            <a:off x="4713120" y="28130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 keep old versions of data item to increase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stamps to label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s issued, select an appropriat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timestamp of the transaction, and return the value of the selected ver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never have to wait as an appropriate version is returned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equence of versions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....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 Each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ree data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value of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timestamp of the transaction that created (wrote)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largest timestamp of a transaction that successfully read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new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-timestamp and R-timestamp are initialized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imestamp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pdated whenever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203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shared locks 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exclusive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wait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2954160" y="1569960"/>
            <a:ext cx="2113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868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.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write timestamp is the largest write timestamp less than or equal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returned is the       content of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conten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ver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a new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always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rite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jected if some oth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(in the serialization order defined by the timestamp values) should rea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rite, has already read a version created by a transaction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guarantees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s between read-only transactions and 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Update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quire read and write locks, and hold all locks up to the end of the transaction. That is, update transactions follow rigorous two-phase 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ersion of a data item has a single timestamp whose value is obtained from a co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incremented during commi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ad-only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ssigned a timestamp by reading the current value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they start execution; they follow the multiversion timestamp-ordering protocol for performing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update transaction wants to read a data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a shared lock on it, and reads the latest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wants to write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X lock on; it then creates a new version of the item and sets this version's timestam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pdate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s, commit processing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imestamp on the versions it has creat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s upda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 before the updates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rializable schedules are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VCC: Implementatio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multiple versions increases storag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in each tuple for storing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can, however, be garbag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f Q has two versions Q5 and Q9, and the oldest active transaction has timestamp &gt; 9, than Q5 will never be required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2800" y="1093680"/>
            <a:ext cx="77630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 Decision support queries that read large amounts of data have concurrency conflicts with OLTP transactions that update a f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performanc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  Give logica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tabase state to read only transactions, read-write transactions use normal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2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well, but how does system know a transaction is read on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Give snapshot of database state to every transaction, updates alone use 2-phase locking to guard against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variety of anomalies such as lost update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solution: snapshot isolation level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by Berenson et al, SIGMOD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s implemented in many databas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, PostgreSQL, SQL Serv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4960" y="1093680"/>
            <a:ext cx="454176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T1 executing with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snapshot of committed data at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reads/modifies data in its own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 of concurrent transactions are not visible to T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of T1 complete when it co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-committer-wins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only if no other concurrent transaction has already written data that T1 intends to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537160" y="1144440"/>
          <a:ext cx="3289320" cy="4837320"/>
        </p:xfrm>
        <a:graphic>
          <a:graphicData uri="http://schemas.openxmlformats.org/drawingml/2006/table">
            <a:tbl>
              <a:tblPr/>
              <a:tblGrid>
                <a:gridCol w="1095480"/>
                <a:gridCol w="1252440"/>
                <a:gridCol w="941400"/>
              </a:tblGrid>
              <a:tr h="3888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(Y :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(X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(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(X:=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(Z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(Z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(Y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(X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mit-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b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30"/>
          <p:cNvSpPr/>
          <p:nvPr/>
        </p:nvSpPr>
        <p:spPr>
          <a:xfrm>
            <a:off x="2047680" y="5165640"/>
            <a:ext cx="336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urrent updates not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wn updates are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ot first-committer of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rialization error, T2 is roll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1"/>
          <p:cNvSpPr/>
          <p:nvPr/>
        </p:nvSpPr>
        <p:spPr>
          <a:xfrm flipV="1">
            <a:off x="5359320" y="4533480"/>
            <a:ext cx="129564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V="1">
            <a:off x="5359320" y="4813200"/>
            <a:ext cx="1308240" cy="74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 flipV="1">
            <a:off x="5359320" y="5143680"/>
            <a:ext cx="129564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 flipV="1">
            <a:off x="5372280" y="5842080"/>
            <a:ext cx="12952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06040" y="231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Rea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081080" y="1449360"/>
            <a:ext cx="7661160" cy="49039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1093680" y="865080"/>
            <a:ext cx="7661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updates invisible to snapshot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Write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First Committer W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720" y="5322600"/>
            <a:ext cx="76611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12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nt: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rst-updater-win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for concurrent updates when write occurs by locking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612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lock should be held till all concurrent transactions have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acle uses this plus some extra fea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s only in when abort occurs, otherwise equival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300320" y="1062000"/>
            <a:ext cx="6906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nefits of S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block other txn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imilar to Read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the usual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t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o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n-repeatabl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ate based selects are repeatable (no phan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oes not always give 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le: among two concurrent txns, one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: neither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ntegrity constraints can be vi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f problem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: x: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: y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x = 3 and y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execution:  x = ??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transactions start at the same time, with snapshot isolation:  x = ?? 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kew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also occurs with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x order number among all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order with order number = previous ma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60640" y="1079640"/>
            <a:ext cx="66960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 followed by all transactions while requesting and releasing locks. Locking protocols restrict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 Anomal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breaks serializability when txns modif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, each based on a previous state of the item the other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very common in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the TPC-C benchmark runs correctly under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xns conflict due to modifying different data, there is usually also a shared item they both modify too (like a total quantity) so SI will abort one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oe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developers should be careful about write sk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can also cause a read-only transaction anomaly, where read-only transaction may see an inconsistent state even if updaters are 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omit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snapshots to verify primary/foreign key integrity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 checking usually done outside of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960" y="1093320"/>
            <a:ext cx="8207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 used when isolation level is set to serializable, by Oracle,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versions prior to 9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mplementation of SI (versions prior to 9.1) described in Section 26.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implemen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upda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le (varian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mmit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writer check is done at time of write, not at comm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ransactions to be rolled back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and PostgreSQL &lt; 9.1 do not support true serializabl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9.1 introduced new protocol called “Serializable Snapshot Isolation” (S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uarantees true serializabilty including handling predicate reads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960" y="1093320"/>
            <a:ext cx="8207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destep SI for specific queries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.. for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 and Postgre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derno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value into local variable max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orders (maxorder+1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update (SFU) treats all data read by the query as if it were also updated, preventing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ensure serializability since phantom phenomena can occur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stgreSQL versions &lt; 9.1, SFU locks the data item, but releases locks when the transaction completes, even if other concurrent transactions ar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quite same as SFU in Oracle, which keeps locks unti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transactions hav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and Delete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-phase locking is us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may be performed only if the transaction deleting the tuple has an exclusive lock on the tuple to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inserts a new tuple into the database is given an X-mode lock on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s and deletions can lead to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antom phenome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cans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find sum of balances of all accounts in Perryrid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transaction that inserts a tuple in the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nsert a new account at Perryri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ptually) conflict in spite of not accessing any tuple in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tuple locks are used, non-serializable schedules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scan transaction does not see the new account, but reads some other tuple written by the upd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 and Delete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scanning the relation is reading  information that indicates what tuples the relation contains, while a transaction inserting a tuple updates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lict should be detected, e.g. by locking th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 data item with the relation, to represent the information about what tuples the relation co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scanning the relation acquire a shared lock in the data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inserting or deleting a tuple acquire an exclusive lock on the data item. (Note: locks on the data item do not conflict with locks on individual tupl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protocol provides very low concurrency for insertions/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s provide higher concurrency wh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ng the phantom phenomenon, by requiring lock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ertain index bu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9316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lation must have at least one inde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can access tuples only after finding them through one or more indices on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performs a lookup must lock all the index leaf nodes that it accesses, in S-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the leaf node does not contain any tuple satisfying the index lookup (e.g. for a range query, no tuple in a leaf is in the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serts, updates or deletes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update all indic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obtain exclusive locks on all index leaf nodes affected by the insert/update/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of the two-phase locking protocol must be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s that phantom phenomenon 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xt-Key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locking protocol to prevent phantoms required locking entire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concurrency if there are many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: for an index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all values that satisfy index lookup (match lookup value, or fall in lookup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lock next key value 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ode: S for lookups, X for insert/delete/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range queries will conflict with inserts/deletes/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ich happens first, as long as both are 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are unlike other database items in that their only job is to help in ac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structures are typically accessed very often, much more than other database i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ing index-structures like other database items, e.g. by 2-phase locking of index nodes can lead to low concurrency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everal index concurrency protocols where locks on internal nodes are released early, and not in a two-phase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cceptable to have nonserializable concurrent access to an index as long as the accuracy of the index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ticular, the exact values read in an internal node of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are irrelevant so long as we land up in the correct 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index concurrency protoc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abbing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two-phase locking on the nodes of the 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ee, as follows.  During search/insertion/del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ock the root node in shared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locking all required children of a node in shared mode, release the lock on the n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insertion/deletion, upgrade leaf node locks to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splitting or coalescing requires changes to a parent, lock the parent in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protocol can cause excessive dead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es coming down the tree deadlock with updates going up th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bort and restart search, without affecting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protocols are available; see Section 16.9 for one such protocol, the B-link tre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uition: release lock on parent before acquiring lock on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eal with changes that may have happened between lock release and acqu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gree-two 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s from two-phase locking in that S-locks may be released at any time, and locks may be acquire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must b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is not guaranteed, programmer must ensure that no erroneous database state will occu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sor st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ds, each tuple is locked, read, and lock is immediately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ar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of degree-two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1197000"/>
            <a:ext cx="71150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: 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assures serializability. It can be proved that the transactions can be serialized in the order of thei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poi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non-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only committed records to be read, and repeating a read should return the same value (so read locks should be ret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phantom phenomenon need not be prev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 may see some records inserted by T2, but may not see others inserted b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ame as degree two consistency, but most systems implement it as cursor-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even uncommitted data to b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y database systems, read committed is the default consist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explicitly changed to serializable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7880" y="274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 across User Inte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pplications need transaction support across use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use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want to reserve database connection per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level concurrenc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uple has a versio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notes version number when reading tu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balance, r.vers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A, :vers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tId =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writing tuple, check that current version number is same as the version when tuple was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.balance = r.balance + :deposi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tId = 2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version = :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 to 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optimistic concurrency control without validating read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ternally in Hibernate ORM system, and manually in many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numbering can also be used to support first committer wins check of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ke SI, reads are not guaranteed to be from a single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Module 1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596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1"/>
          <a:stretch/>
        </p:blipFill>
        <p:spPr>
          <a:xfrm>
            <a:off x="1832040" y="3117960"/>
            <a:ext cx="419724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71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1320" y="1247760"/>
            <a:ext cx="701496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in the following se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oes not follow two-phase locking, we can find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s two-phase locking, and a schedu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conflict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6627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X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(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(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assures serializability. But still relies on the programmer to insert the various  lock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2680" y="1117080"/>
            <a:ext cx="68788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4Z</dcterms:created>
  <dc:creator>Silberschatz, Korth and Sudarshan</dc:creator>
  <dc:description/>
  <dc:language>en-US</dc:language>
  <cp:lastModifiedBy>IT-Staff001</cp:lastModifiedBy>
  <dcterms:modified xsi:type="dcterms:W3CDTF">2018-10-03T05:15:57Z</dcterms:modified>
  <cp:revision>426</cp:revision>
  <dc:subject/>
  <dc:title>Chapter 15: Concurrency Control</dc:title>
</cp:coreProperties>
</file>